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hyperlink" Target="file:///../Local%20Settings/Temp/Temporary%20Directory%201%20for%20gr%20-%20title%20by%20name.zip/Local%20Settings/Temp/Owner/Desktop/RWU%20course/webquesting/Powerpoint%20Webquest%20template/student%20pages.ppt" TargetMode="External"/><Relationship Id="rId6" Type="http://schemas.openxmlformats.org/officeDocument/2006/relationships/slide" Target="slide3.xml"/><Relationship Id="rId7" Type="http://schemas.openxmlformats.org/officeDocument/2006/relationships/slide" Target="slide4.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11.xml"/><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828800" cy="70434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 P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Top</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Introduction</a:t>
            </a:r>
            <a:r>
              <a:rPr b="0" lang="en-US" sz="1800" spc="-1" strike="noStrike" u="sng">
                <a:solidFill>
                  <a:srgbClr val="009999"/>
                </a:solidFill>
                <a:uFillTx/>
                <a:latin typeface="Arial"/>
                <a:hlinkClick r:id="rId5"/>
              </a:rPr>
              <a:t>_x000b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Learn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009999"/>
                </a:solidFill>
                <a:uFillTx/>
                <a:latin typeface="Arial"/>
                <a:hlinkClick r:id="rId7" action="ppaction://hlinksldjump"/>
              </a:rPr>
              <a:t>Standa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ction="ppaction://hlinksldjump"/>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9" action="ppaction://hlinksldjump"/>
              </a:rPr>
              <a:t>Resour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0" action="ppaction://hlinksldjump"/>
              </a:rPr>
              <a:t>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clu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tudent p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1" action="ppaction://hlinksldjump"/>
              </a:rPr>
              <a:t>Credi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1981080" y="30492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
          <p:cNvSpPr/>
          <p:nvPr/>
        </p:nvSpPr>
        <p:spPr>
          <a:xfrm>
            <a:off x="2362320" y="533520"/>
            <a:ext cx="64767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s/_rels/slide1.xml.rels><?xml version="1.0" encoding="UTF-8"?>
<Relationships xmlns="http://schemas.openxmlformats.org/package/2006/relationships"><Relationship Id="rId1" Type="http://schemas.openxmlformats.org/officeDocument/2006/relationships/hyperlink" Target="http://webquest.sdsu.edu/webquest.html"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ebquest.sdsu.edu/webquest.html" TargetMode="External"/><Relationship Id="rId2" Type="http://schemas.openxmlformats.org/officeDocument/2006/relationships/hyperlink" Target="http://edweb.sdsu.edu/webquest/webquest.html"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project2061.org/tools/benchol/bolintro.ht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earch.nap.edu/readingroom/books/nses/" TargetMode="External"/><Relationship Id="rId2" Type="http://schemas.openxmlformats.org/officeDocument/2006/relationships/hyperlink" Target="http://www.project2061.org/tools/benchol/bolintro.ht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mazon.co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33720" y="685800"/>
            <a:ext cx="6629400" cy="457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t the Title of the Lesson Her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ebQuest for xth Grade (Put Subject He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Your Name Here</a:t>
            </a:r>
            <a:br>
              <a:rPr sz="1800"/>
            </a:br>
            <a:r>
              <a:rPr b="0" lang="en-US" sz="1800" spc="-1" strike="noStrike">
                <a:solidFill>
                  <a:srgbClr val="000000"/>
                </a:solidFill>
                <a:latin typeface="Arial"/>
              </a:rPr>
              <a:t>(Insert Your E-mail Address as hyperlin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t some interesting graphic representing the content he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a template from San Diego State University’s </a:t>
            </a:r>
            <a:r>
              <a:rPr b="0" lang="en-US" sz="1400" spc="-1" strike="noStrike" u="sng">
                <a:solidFill>
                  <a:srgbClr val="009999"/>
                </a:solidFill>
                <a:uFillTx/>
                <a:latin typeface="Arial"/>
                <a:hlinkClick r:id="rId1"/>
              </a:rPr>
              <a:t>The WebQuest Page</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905120" y="244800"/>
            <a:ext cx="6781680" cy="1190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ome kind of summary statement here about the worthiness of this lesson and the importance of what it will teach.</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981080" y="304920"/>
            <a:ext cx="6934320" cy="15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dits &amp;Refer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here the sources of any images, music or text that you're using. Provide links back to the original source. Say thanks to anyone who provided resources or help.  List any books and other analog media that you used as information sources as well.  Include a link back to </a:t>
            </a:r>
            <a:r>
              <a:rPr b="0" lang="en-US" sz="1200" spc="-1" strike="noStrike" u="sng">
                <a:solidFill>
                  <a:srgbClr val="009999"/>
                </a:solidFill>
                <a:uFillTx/>
                <a:latin typeface="Arial"/>
                <a:hlinkClick r:id="rId1"/>
              </a:rPr>
              <a:t>The WebQuest </a:t>
            </a:r>
            <a:r>
              <a:rPr b="0" lang="en-US" sz="1200" spc="-1" strike="noStrike" u="sng">
                <a:solidFill>
                  <a:srgbClr val="009999"/>
                </a:solidFill>
                <a:uFillTx/>
                <a:latin typeface="Arial"/>
                <a:hlinkClick r:id="rId2"/>
              </a:rPr>
              <a:t>Page</a:t>
            </a:r>
            <a:r>
              <a:rPr b="0" lang="en-US" sz="1200" spc="-1" strike="noStrike" u="sng">
                <a:solidFill>
                  <a:srgbClr val="000000"/>
                </a:solidFill>
                <a:uFillTx/>
                <a:latin typeface="Arial"/>
              </a:rPr>
              <a:t> so that others can acquire the latest version of this template and training materials.</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981080" y="261000"/>
            <a:ext cx="6553440" cy="210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gin with something that describes the origin of the lesson. For example: This lesson was developed as part of the elementary science methods course at Roger Williams University, in Bristol, Rhode Isl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he audience for this document is other teachers, not student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57400" y="1800"/>
            <a:ext cx="6629400" cy="265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be the grade level and course that the lesson is designed to cover. For example: "This lesson is anchored in third grade science.“  If the lesson can easily be extended to additional grades and subjects, mention that briefly here as w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be what the learners will need to know prior to beginning this lesson. Limit this description to the most critical skills that could not be picked upon the fly as the lesson is giv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specific research from the </a:t>
            </a:r>
            <a:r>
              <a:rPr b="0" lang="en-US" sz="1200" spc="-1" strike="noStrike" u="sng">
                <a:solidFill>
                  <a:srgbClr val="009999"/>
                </a:solidFill>
                <a:uFillTx/>
                <a:latin typeface="Arial"/>
                <a:hlinkClick r:id="rId1"/>
              </a:rPr>
              <a:t>Benchmarks for Science Literacy</a:t>
            </a:r>
            <a:r>
              <a:rPr b="0" lang="en-US" sz="1200" spc="-1" strike="noStrike">
                <a:solidFill>
                  <a:srgbClr val="000000"/>
                </a:solidFill>
                <a:latin typeface="Arial"/>
              </a:rPr>
              <a:t>, chapter 15 </a:t>
            </a:r>
            <a:r>
              <a:rPr b="0" i="1" lang="en-US" sz="1200" spc="-1" strike="noStrike">
                <a:solidFill>
                  <a:srgbClr val="000000"/>
                </a:solidFill>
                <a:latin typeface="Arial"/>
              </a:rPr>
              <a:t>“The Research Base”.  </a:t>
            </a:r>
            <a:r>
              <a:rPr b="0" lang="en-US" sz="1200" spc="-1" strike="noStrike">
                <a:solidFill>
                  <a:srgbClr val="000000"/>
                </a:solidFill>
                <a:latin typeface="Arial"/>
              </a:rPr>
              <a:t>Choose research which addresses what learners at your targeted audience know or need to know about this subject.</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981080" y="564480"/>
            <a:ext cx="6934320" cy="5454000"/>
          </a:xfrm>
          <a:prstGeom prst="rect">
            <a:avLst/>
          </a:prstGeom>
          <a:noFill/>
          <a:ln w="0">
            <a:noFill/>
          </a:ln>
        </p:spPr>
        <p:style>
          <a:lnRef idx="0"/>
          <a:fillRef idx="0"/>
          <a:effectRef idx="0"/>
          <a:fontRef idx="minor"/>
        </p:style>
        <p:txBody>
          <a:bodyPr lIns="90000" rIns="90000" tIns="46800" bIns="46800" anchor="ctr">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iculum Standards</a:t>
            </a: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ill students learn as a result of this lesson? Describe the outcomes succinctly. Use the language of existing standards.  Draw your standards from the Benchmarks for Science Literacy, The National Science Education Standards, and the RI GSE’s.  Show </a:t>
            </a:r>
            <a:r>
              <a:rPr b="0" lang="en-US" sz="1000" spc="-1" strike="noStrike" u="sng">
                <a:solidFill>
                  <a:srgbClr val="000000"/>
                </a:solidFill>
                <a:uFillTx/>
                <a:latin typeface="Arial"/>
              </a:rPr>
              <a:t>only</a:t>
            </a:r>
            <a:r>
              <a:rPr b="0" lang="en-US" sz="1000" spc="-1" strike="noStrike">
                <a:solidFill>
                  <a:srgbClr val="000000"/>
                </a:solidFill>
                <a:latin typeface="Arial"/>
              </a:rPr>
              <a:t> CONTENT standards.</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r project were on life science for the 3</a:t>
            </a:r>
            <a:r>
              <a:rPr b="0" lang="en-US" sz="1000" spc="-1" strike="noStrike" baseline="30000">
                <a:solidFill>
                  <a:srgbClr val="000000"/>
                </a:solidFill>
                <a:latin typeface="Arial"/>
              </a:rPr>
              <a:t>rd</a:t>
            </a:r>
            <a:r>
              <a:rPr b="0" lang="en-US" sz="1000" spc="-1" strike="noStrike">
                <a:solidFill>
                  <a:srgbClr val="000000"/>
                </a:solidFill>
                <a:latin typeface="Arial"/>
              </a:rPr>
              <a:t> grade,  your standards page might look something like:</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National Science Education Standards</a:t>
            </a: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 Science</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 STANDARD C:</a:t>
            </a:r>
            <a:br>
              <a:rPr sz="1000"/>
            </a:br>
            <a:r>
              <a:rPr b="1" lang="en-US" sz="1000" spc="-1" strike="noStrike">
                <a:solidFill>
                  <a:srgbClr val="000000"/>
                </a:solidFill>
                <a:latin typeface="Arial"/>
              </a:rPr>
              <a:t>As a result of activities in grades K-4, all students should develop understanding of</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aracteristics of organisms </a:t>
            </a:r>
            <a:endParaRPr b="0" lang="en-US" sz="1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sms have basic needs. For example, animals need air, water, and food; plants require air, water, nutrients, and light. Organisms can survive only in environments in which their needs can be met. The world has many different environments, and distinct environments support the life of different types of organisms. </a:t>
            </a:r>
            <a:endParaRPr b="0" lang="en-US" sz="1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plant or animal has different structures that serve different functions in growth, survival, and reproduction. For example, humans have distinct body structures for walking, holding, seeing, and talking. </a:t>
            </a:r>
            <a:endParaRPr b="0" lang="en-US" sz="1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havior of individual organisms is influenced by internal cues (such as hunger) and by external cues (such as a change in the environment). Humans and other organisms have senses that help them detect internal and external cues. </a:t>
            </a:r>
            <a:endParaRPr b="0" lang="en-US" sz="1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 cycles of organisms </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Benchmarks for Science Literacy</a:t>
            </a: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Living Environment</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ersity of Life</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e 5th grade, students should know that</a:t>
            </a:r>
            <a:endParaRPr b="0" lang="en-US" sz="1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eat variety of kinds of living things can be sorted into groups in many ways using various features to decide which things belong to which group. </a:t>
            </a:r>
            <a:endParaRPr b="0" lang="en-US" sz="1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tures used for grouping depend on the purpose of the grouping. </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5" name="">
            <a:hlinkClick r:id="" action="ppaction://hlinkshowjump?jump=nextslide"/>
          </p:cNvPr>
          <p:cNvSpPr/>
          <p:nvPr/>
        </p:nvSpPr>
        <p:spPr>
          <a:xfrm>
            <a:off x="8686800" y="6324480"/>
            <a:ext cx="152280" cy="152640"/>
          </a:xfrm>
          <a:custGeom>
            <a:avLst/>
            <a:gdLst>
              <a:gd name="textAreaLeft" fmla="*/ 9720 w 152280"/>
              <a:gd name="textAreaRight" fmla="*/ 142560 w 152280"/>
              <a:gd name="textAreaTop" fmla="*/ 9720 h 152640"/>
              <a:gd name="textAreaBottom" fmla="*/ 142920 h 15264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3794" y="3819"/>
                </a:moveTo>
                <a:lnTo>
                  <a:pt x="17806" y="10825"/>
                </a:lnTo>
                <a:lnTo>
                  <a:pt x="3794" y="1783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8153280" y="62784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more</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a:hlinkClick r:id="" action="ppaction://hlinkshowjump?jump=previousslide"/>
          </p:cNvPr>
          <p:cNvSpPr/>
          <p:nvPr/>
        </p:nvSpPr>
        <p:spPr>
          <a:xfrm>
            <a:off x="2057400" y="640080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362320" y="63244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back</a:t>
            </a:r>
            <a:endParaRPr b="0" lang="en-US" sz="1200" spc="-1" strike="noStrike">
              <a:solidFill>
                <a:srgbClr val="000000"/>
              </a:solidFill>
              <a:latin typeface="Arial"/>
            </a:endParaRPr>
          </a:p>
        </p:txBody>
      </p:sp>
      <p:sp>
        <p:nvSpPr>
          <p:cNvPr id="49" name=""/>
          <p:cNvSpPr/>
          <p:nvPr/>
        </p:nvSpPr>
        <p:spPr>
          <a:xfrm>
            <a:off x="1905120" y="304920"/>
            <a:ext cx="5943600" cy="2590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iculum Standards (continue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hode Island Grade Span Expectation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a:t>
            </a: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ment of Enduring Knowledge</a:t>
            </a: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 Target</a:t>
            </a: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de Span Expectations for this lesson</a:t>
            </a: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your reference, the GSE’s are linked here:</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200" spc="-1" strike="noStrike">
                <a:solidFill>
                  <a:srgbClr val="ff3300"/>
                </a:solidFill>
                <a:latin typeface="Arial"/>
              </a:rPr>
              <a:t>Life Scienc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Earth and Space Scienc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Physical Scienc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981080" y="304920"/>
            <a:ext cx="6934320" cy="31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paste in the process description given to students and then interleave the additional details that a teacher might need.  Describe briefly how the lesson is organized. Does it involve more than one class? Is it all taught in one period per day, or is it part of several periods? How many days or weeks will it take? Is it single disciplinary, interdisciplinary, multidisciplinary or what?  If students are divided into groups, provide guidelines on how you might do th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re are misconceptions or stumbling blocks that you anticipate, describe them here and suggest ways to get around them.  What skills does a teacher need in order to pull this lesson off? Is it easy enough for a novice teacher? Does it require some experience with directing debates or role plays, for examp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can think of ways to vary the way the lesson might be carried out in different situations (lab vs. in-class, for example), describe them here.</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981080" y="304920"/>
            <a:ext cx="6934320" cy="3928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s Need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what's needed to implement this lesson. Some of the possibilities:</a:t>
            </a:r>
            <a:endParaRPr b="0" lang="en-US" sz="1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sets of books </a:t>
            </a:r>
            <a:endParaRPr b="0" lang="en-US" sz="1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accounts for all students </a:t>
            </a:r>
            <a:endParaRPr b="0" lang="en-US" sz="1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software (how many copies?) </a:t>
            </a:r>
            <a:endParaRPr b="0" lang="en-US" sz="1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hardware (what kind? How many?) </a:t>
            </a:r>
            <a:endParaRPr b="0" lang="en-US" sz="1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reference material in the classroom or school library </a:t>
            </a:r>
            <a:endParaRPr b="0" lang="en-US" sz="1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or audio materials</a:t>
            </a:r>
            <a:endParaRPr b="0" lang="en-US" sz="1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esson makes extensive use of specific websites, it would be appropriate to list, describe and link them here. It would also be helpful to link the names of books suggested to </a:t>
            </a:r>
            <a:r>
              <a:rPr b="0" lang="en-US" sz="1200" spc="-1" strike="noStrike" u="sng">
                <a:solidFill>
                  <a:srgbClr val="009999"/>
                </a:solidFill>
                <a:uFillTx/>
                <a:latin typeface="Arial"/>
                <a:hlinkClick r:id="rId1"/>
              </a:rPr>
              <a:t>Amazon</a:t>
            </a:r>
            <a:r>
              <a:rPr b="0" lang="en-US" sz="1200" spc="-1" strike="noStrike" u="sng">
                <a:solidFill>
                  <a:srgbClr val="000000"/>
                </a:solidFill>
                <a:uFillTx/>
                <a:latin typeface="Arial"/>
              </a:rPr>
              <a:t> or other online sources.</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also the </a:t>
            </a:r>
            <a:r>
              <a:rPr b="0" i="1" lang="en-US" sz="1200" spc="-1" strike="noStrike">
                <a:solidFill>
                  <a:srgbClr val="000000"/>
                </a:solidFill>
                <a:latin typeface="Arial"/>
              </a:rPr>
              <a:t>human</a:t>
            </a:r>
            <a:r>
              <a:rPr b="0" lang="en-US" sz="1200" spc="-1" strike="noStrike">
                <a:solidFill>
                  <a:srgbClr val="000000"/>
                </a:solidFill>
                <a:latin typeface="Arial"/>
              </a:rPr>
              <a:t> resources needed. how many teachers are needed to implement the lesson. Is one enough? Is there a role for aides or parents in the room? Do you need to coordinate with a teacher at another school? With a partner in industry or a museum or other entity? Is a field trip designed in as part of the lesson?</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981080" y="152280"/>
            <a:ext cx="6934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will you know that this lesson was successful? Describe what student products or performances you'll be looking at and how they'll be evaluated. This, of course, should be tightly related to the standards and objectives you cited above.  You may want to just copy and paste the evaluation section of the student page  into this space and add any clarifications needed for another teacher to make use of this lesson.</a:t>
            </a:r>
            <a:endParaRPr b="0" lang="en-US" sz="1000" spc="-1" strike="noStrike">
              <a:solidFill>
                <a:srgbClr val="000000"/>
              </a:solidFill>
              <a:latin typeface="Arial"/>
            </a:endParaRPr>
          </a:p>
        </p:txBody>
      </p:sp>
      <p:sp>
        <p:nvSpPr>
          <p:cNvPr id="53" name=""/>
          <p:cNvSpPr/>
          <p:nvPr/>
        </p:nvSpPr>
        <p:spPr>
          <a:xfrm>
            <a:off x="2057400" y="251460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981080" y="1295280"/>
          <a:ext cx="6934320" cy="5056200"/>
        </p:xfrm>
        <a:graphic>
          <a:graphicData uri="http://schemas.openxmlformats.org/drawingml/2006/table">
            <a:tbl>
              <a:tblPr/>
              <a:tblGrid>
                <a:gridCol w="1733760"/>
                <a:gridCol w="1155600"/>
                <a:gridCol w="1155600"/>
                <a:gridCol w="1155960"/>
                <a:gridCol w="1153800"/>
                <a:gridCol w="579600"/>
              </a:tblGrid>
              <a:tr h="662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emplar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99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ccomplish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velop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eginn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cor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46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ted Objective or Perform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the highest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mastery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development and movement toward mastery of performance.</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a beginning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ted Objective or Perform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the highest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mastery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development and movement toward mastery of perform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a beginning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ted Objective or Perform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the highest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mastery of perform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development and movement toward mastery of perform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a beginning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5" name="">
            <a:hlinkClick r:id="" action="ppaction://hlinkshowjump?jump=nextslide"/>
          </p:cNvPr>
          <p:cNvSpPr/>
          <p:nvPr/>
        </p:nvSpPr>
        <p:spPr>
          <a:xfrm flipV="1">
            <a:off x="8763120" y="647640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8153280" y="64008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057400" y="251460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362320" y="456120"/>
            <a:ext cx="6705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ion (continued)</a:t>
            </a:r>
            <a:endParaRPr b="0" lang="en-US" sz="2400" spc="-1" strike="noStrike">
              <a:solidFill>
                <a:srgbClr val="000000"/>
              </a:solidFill>
              <a:latin typeface="Arial"/>
            </a:endParaRPr>
          </a:p>
        </p:txBody>
      </p:sp>
      <p:graphicFrame>
        <p:nvGraphicFramePr>
          <p:cNvPr id="59" name=""/>
          <p:cNvGraphicFramePr/>
          <p:nvPr/>
        </p:nvGraphicFramePr>
        <p:xfrm>
          <a:off x="1905120" y="1371600"/>
          <a:ext cx="7010280" cy="3124080"/>
        </p:xfrm>
        <a:graphic>
          <a:graphicData uri="http://schemas.openxmlformats.org/drawingml/2006/table">
            <a:tbl>
              <a:tblPr/>
              <a:tblGrid>
                <a:gridCol w="1752480"/>
                <a:gridCol w="1168560"/>
                <a:gridCol w="1168200"/>
                <a:gridCol w="1168560"/>
                <a:gridCol w="1166760"/>
                <a:gridCol w="585720"/>
              </a:tblGrid>
              <a:tr h="156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ted Objective or Perform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the highest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mastery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development and movement toward mastery of perform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a beginning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56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ted Objective or Perform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the highest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mastery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development and movement toward mastery of perform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 of identifiable performance characteristics reflecting a beginning level of perform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0" name="">
            <a:hlinkClick r:id="" action="ppaction://hlinkshowjump?jump=previousslide"/>
          </p:cNvPr>
          <p:cNvSpPr/>
          <p:nvPr/>
        </p:nvSpPr>
        <p:spPr>
          <a:xfrm>
            <a:off x="8763120" y="647712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8229600" y="64008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15:57:17Z</dcterms:created>
  <dc:creator>EBEC</dc:creator>
  <dc:description/>
  <dc:language>en-US</dc:language>
  <cp:lastModifiedBy>Andrea Dormer</cp:lastModifiedBy>
  <dcterms:modified xsi:type="dcterms:W3CDTF">2008-03-02T21:53:33Z</dcterms:modified>
  <cp:revision>9</cp:revision>
  <dc:subject/>
  <dc:title>Slide 1</dc:title>
</cp:coreProperties>
</file>